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A93-4F2B-4CB2-AF2C-CF2052D8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D7C-785E-4134-9F1C-C7019E54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B5D5E-0E0C-4EA3-A3BB-4B0B9CD9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6C1BA-836E-493C-BC0C-90993D39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19049-1446-4B3B-81FE-0105257E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AF423-0C13-4C18-B71B-C9080851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2ADA3-4422-4BC6-BDE9-3A079041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00BD4-82B5-4927-857D-B657D7EB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C78AD-3CF8-4194-983A-822AA3A6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8770D-3AD2-4A77-8D50-A991D6E8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0F104-6624-4DC0-89DC-C66ECA72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34877-FA4C-4858-9E1B-77465EB5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224-ACF5-43CC-A8A1-80760672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D7857-FB97-4A54-9AB6-E59ED2FC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9768C-EBCA-4B67-8D11-F8EFF7E3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EE61F-C1A4-422F-97D1-55E3BDF9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CED59-15A7-470E-ABDC-C248D673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B3206-2D6C-4008-9590-BF0E98AF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94DBF-A512-448D-A70E-D8057958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08F4F-01E2-4191-BD5F-CFEF987C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5A71C-7253-4E58-A0E5-270753E6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47A78-4AE4-4859-9C36-5DDDC96A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F4614-9F33-4E9F-9141-02F7B807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BB62-D041-492E-A5F2-5FE50E86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CDFA0-5C25-4B8F-9067-56EAE4C4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9C501-077D-46A9-B02D-6E6B63F3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9EF3E-A0BB-46F3-8A32-1013B3D7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33735-6B17-4426-B8CB-4FEA157C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BA785-0CE4-4962-90FF-CD9B602E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7A1AF-CE6B-4C01-A8A6-A9402BD3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91032-CC43-40EB-86DB-57165C2B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D849B-5AD8-4385-9459-B6FAA774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FEEC4-E07A-418B-84B1-1E0DDC69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83410-61C8-4705-B874-E593C60A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2DD7-4CD1-4138-BA8B-49A91AA9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8FB24-9647-4A58-A14E-8F5416DD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7F1C5-81DB-46BB-8E05-ADFF8A20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5A1A9-7FF8-466A-97B5-58D1F897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C2748-E9DB-4865-B5E8-DEB56DBC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B6E59-B403-488A-A3E4-36E08825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5ED0E-A574-4B11-AE3F-DD91AC9E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080CE-7EE7-48AF-97A3-60049F28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DBDE5-B39C-447A-B1B7-1A6799E5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AA579-C928-4E31-94B5-259CC03A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9983B-875E-40A9-8E12-FBC84C9E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2B99-5C8F-48AC-AB12-19C8D29D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9C8CC-B7FB-4AE1-A002-9C904875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5627D-748F-4A7E-AEAF-C87334E0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477BD-08AE-4ED4-B0B3-2FDC081F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3779B-E158-45C3-A1E0-33440328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03C6C-8BA4-416C-9761-8D2509D1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94220-E3F8-429F-A6CF-518E4667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79BE9-5A40-4766-8A06-CA6E6D53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CAFA5-41E2-4FDA-928C-FC80B3D8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C5D03-D35D-400B-8FFB-20C1F626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FA909-33C6-4B80-9BDF-D3DEF8E3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6EB2-D825-4BDB-9CF0-C218146B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6D6E4-024B-472E-AF64-3CA03A3E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B014F-9D84-4235-B9C8-FB80B4E4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76B3C-A677-4A4B-B6E5-AE336BD2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D6676-5715-445B-9256-7109508C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B4B317-A3E1-4F44-8F95-68DFE326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A5CA9-4268-4F38-95DA-66922242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F84E7-A8B9-41FC-966C-59482050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FAEB8C-1888-446D-8787-56F2C726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BF3D7-6052-4542-A358-65B71125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672F88-780F-4766-A2DF-4CF324DC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3877-E6F1-4A06-BD24-8C511D7B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0BA3E7-EC09-4EFA-9DE8-88844F5C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16AA34-D7B7-448F-8981-53B865EC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E869BB-719C-46BA-8616-C6B70994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931C5C-BC31-4E7B-9180-5AC4274C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47A0A-4B26-4595-93F1-3B379F41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0E433D-9813-4FEC-A527-5DC43E6C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0D990-5E51-4E85-9868-45A49058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CCAAD-D60F-4EA0-8FF7-A7077122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BC2795-EBCF-4966-BFDF-F50D1038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11D5B4-E481-42B4-8B7C-94D20348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1501-F738-4C03-A592-0F36C9CA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0754BB-F679-40E0-99B0-1D519AA4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59668-8FB7-4610-BB46-42837494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CA1238-2850-4BB9-B1D8-C89E8421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EDCDD4-E8FA-44FE-86A2-F3A02AD8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3B080A-EB26-4D7E-8828-E0B5B249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B5BEA1-202F-4F7D-ACD1-372E9C9B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A490EF-FA35-4C55-B873-CAE1C87A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FB60D8-CE8B-480D-BF66-487A8A28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E206D8-88F4-4F13-9F61-7DED2AEC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F500B4-B601-49D3-8956-CD759BA6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72DA-10A7-415A-B5C1-C9784903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52E842-05C5-4316-92ED-60512B62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73B08B-E1E3-472B-B69C-19BDBB43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39A66-2E94-4C8C-997F-9C632EFA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8AEE31-AEDF-4743-B2D4-A6A2D6BE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0C181-87F4-4589-8F19-A4F994B7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346A07-9764-4B64-9AF8-B671B5F7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8BC6F9-5EFD-4815-A889-D7B32066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5AE65D-D6EC-4132-907F-7637A9A9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690CD1-35D8-4D48-B31E-B474F304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2EC467-6C22-4ED1-9CE4-0BE14DDE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1519-B16F-481F-A2E0-98117C0A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9504DF-43FF-4F3E-AA41-97E13F11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6528B7-5B4A-4F1A-9980-640F9094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BCC675-3139-410B-844A-79DF44C3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C8F424-84C4-4B99-8580-A53AE22F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C2551D-FB25-45C5-8E40-F7D5B05F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92925-37D9-4FCF-B8F1-DFD440A9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613AE1-D755-4996-9B29-A11CDE45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5C21BD-5743-451F-91AD-C1C60E70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4C790-F4AF-45FD-A019-0AD9C285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D91BF3-5627-4CE4-B56C-0FC0F91D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CC8-20AF-4638-B3FF-C2DDEF5E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9335-02CB-46F9-BAC2-4227C05C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A3C0E0-2630-449D-B3CA-C17C39E4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D43F9E-E45E-4112-8F5A-2EEE1077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B96D33-4C1F-4F58-ACA4-007CFAEB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32BE92-DD66-42B7-A3B7-F5DF4C45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8B7FD2-9B6F-4CE6-9F93-D440C700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9B711A-8406-40BE-A03A-21C4E665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BC70C6-3052-44F2-9FA9-EB163A9C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70FEB0-4DD9-4456-B200-4FA0C110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75C40B-5595-4DEE-939C-8BC2648F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5EB1CE-2B39-46B9-934D-DEB62AEB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931A-E346-4563-A431-415DE5B4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8E925A-A5F3-4B4D-A2D0-B968904E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180C5A-2110-4A91-90FE-8A2880F2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E637F5-73A6-43BC-A706-3F66F39C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F1B00-15C1-420B-922D-EBF4E24C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2EE271-25B8-4C5A-BC28-48D61313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C52DB3-23D5-4854-A302-0F2D2239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C425AD-098C-441C-9737-00515D2B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CBF4AA-CF6A-4678-9C94-3B8CA62F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51EC91-5E5D-4025-B218-916BD8D8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4FF69C-1665-4284-8165-0E60B13F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1BF9-583B-4CD0-9025-F1CE48D7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68F755-6546-41E5-B39B-E2FC2028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F6ED95-42D6-40EF-AC77-16192B7B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33080C-CDF0-423D-A7E1-9746F9EC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0B949B-DD68-448E-A909-BF8FE8D6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D83C4A-A519-4E57-8220-6193839E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F633EB-9C0B-477C-9118-478240D8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238E5C-AA30-499F-913D-B74BA1B0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1EE371-29C0-47D1-9DAF-60201A58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EAC812-DA15-4540-BAFF-20EA9F88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374FC1-D4F1-4C3B-A610-4F3B243C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F919-154F-444E-B9C7-CC407A88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654D4A-8614-4846-8F77-7F131F7F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C84A61-310E-4E04-8CFF-1827127D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C7F454-D345-49DC-892B-DEF7D0A9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4303CD-A3B5-4E2E-A37F-B8427F17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A7D0B0-5D30-4059-9FEC-D1E1722D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8D080C-43E0-40C7-A094-D638C912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1002A2-B117-4FCA-9E70-72628BDE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F4BDCC-E8D0-4621-8CC6-51F5C095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70F7D6-5280-43BA-98F5-0B5E38C1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D7C5F5-0A0A-4944-936D-EA3E9A52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EAD8-8FF7-45F1-813F-1095B6BC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3BDD0A-F819-44EC-A467-D3F443B6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0D415B-09E8-4555-BA72-3C87A6F0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8B9B78-9285-4E63-879F-CA14B3E9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DAA861-8A13-4954-8533-10F08514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6E79A6-0ACB-4835-9AE7-CE088526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CB6742-9616-412C-A0BF-52CE5994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54C8E8-9AEB-479B-88F3-B5122C26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BC233F-2480-43BC-A38D-8EEDB171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C7C6F2-9DB0-44D9-B5D8-EF693109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31A8AA-471B-4CCE-A446-F018D840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DAAC2-C497-4C66-BCC9-785FCAFF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299464-869A-48AB-8F39-1A9F3FCF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766F75-C890-4720-AFAC-CD9D1CC3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385F32-7D5E-408D-81A6-B1DF0AA4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808C-470C-4E0B-939E-3AE7C12C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8CBDC-50C0-4B42-8303-BB111090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B6917-916D-4C43-B223-2510E895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D35B7-5D0D-423C-B96F-1F358967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C45-44EF-4111-82E1-2D13F1AF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11E5-E35F-4F28-A47A-1FD24333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82A2E-3297-4598-BBC0-F432600A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FCB26-62E8-4819-BA0C-E77ED783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DF159-4CC3-4026-B2E4-6A15BC9B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1A36-9A71-4ABC-B60D-B0350C3C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07AC-5E86-438F-A089-C7BDBC78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BE7AB-3BBE-45B8-8B08-39D9A75B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0589F-E988-4349-849C-C7471430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BDB66-437C-4034-A14A-B74FF0E4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608E6-5A17-4729-A84D-6DD67663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40B-6613-4F06-A02B-580885C8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A520C-3ACA-4F61-ABF5-F574D304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74423-3147-4BC5-9BD3-434838FF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D0114-7D09-4A68-B33B-9922B7F7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24A7D-58DA-4F2A-886D-1F7B5EE4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BDF0E-2295-46D3-8E90-E55CDA48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F012B-690F-44C0-8846-90220493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814B3-4120-42F0-BA5F-BAFE6BAA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2E132-CC35-4185-89F6-C4EC9A53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92D4C-EFBF-4FAA-AF5B-56DE2933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A1A61-A047-40D2-A980-97C51EC9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AF7-C9A5-43E6-9BE2-19256BAE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095DE-D306-4857-A022-FDDCE5F1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2D2B4-FC18-4EDC-9813-C49681E0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06E5B-A6FD-4FCD-9D55-5FF5C994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8689C-FE0D-42FE-9FE9-2BD18FBD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D45EF-2390-4CF3-99ED-DB7E227F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D9908-B1D4-4A8C-9AE3-49AF6E6F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5FD33-1134-48C3-AC65-0F03C917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24754-199A-4AFD-9DFE-0B2961A2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460AD-1D42-4F65-B302-1C1403E8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5A0AB-05F3-469A-8BC3-DB989D3A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C4D-EBE8-4C14-8EA5-E4C20039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7FAE0-E1D1-4014-AF02-9253C374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4D762-D887-47D5-B774-A3A1E8A8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B7528-B827-4096-80F1-47FCEE70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BA6C7-51EB-4C6E-A555-2B65838E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71A59-04B7-4D02-8A4F-062B10D5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E8A63-733B-4047-9FA8-E37569AB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F304E-047B-4CFD-8DF1-42C5AF88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C766E-6C10-4AF2-9BBA-641C4136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322EB-093D-4286-BF99-787AAD4C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BFD6A-9C57-4B43-865B-608CEF86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61B-905B-4EE5-ABBF-14BD57B5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76852-E3F2-4435-91EB-BA6FE843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D8440-A355-480D-B5A9-CC2C9552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B53A6-9478-456B-B6DA-6C53E82A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B53EE-3A01-4B27-BDA3-4ABE7B20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3C345-13AB-4037-B21E-EA94CA15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27FE3-F072-48A8-BF2D-4B1C54B1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F0CE1-22D8-4806-8209-5AB05724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F3457-39F1-4195-BB46-DAF9BD08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C6A4E-2AE6-4CC0-A582-7B310C7F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A04F9-40A7-43F5-A1A6-CC6D2AEB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048F-F91F-491B-8A81-4B940619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DADCF-55D6-461A-AFA1-0004EEE6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5282D-389A-4819-9FD7-D9923042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0B818-34D5-4A2E-8F54-5C18B881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117AD-834A-48AE-BC34-04A78D9C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7B3B2-C176-4D98-8D7F-34EE3253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37C1F-4E7F-41FF-8AB2-91A8B4F9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D6088-4D37-4001-B584-9FF5E1D9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EBE3D-64C6-4C97-8246-E4148E12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1BA69-1036-4B3C-8249-D453B4BE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9A0A1-8500-40AF-9782-352AE505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174-BBD8-4B61-B59B-56F8A147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B121D-0DCE-4FD7-B5E9-6353DD63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6F3A4-00CE-4DDF-BC06-E382D87E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D4116-1EE4-4397-ACD1-B4DF172A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865F2-E792-4E3A-B1C8-EF9F279D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5E9C9-8F26-424A-955A-A33B545C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A39EB-2209-4E9C-AA61-D593CAB0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A7AD1-CB55-4F45-ACEF-29CE5B11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1BD6C-CC19-4FBA-93FE-628EA017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A7134-0033-4336-9509-A182246B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395D6-2237-4B8D-A8FB-3AFB2937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4013-FB68-4DE6-AC55-F930CC042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8A22-2D57-42CD-8940-EF92DF2E53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04C5-9937-4853-826D-34ADEB1075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DEEF-2DCF-4239-ACBF-19AA225AB6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9A8A-FB91-4483-B6CE-A13DEF0E49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2263-5BB8-408D-916A-4094E9E9DC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E69E-60BF-440A-8C7A-714669D457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FFB6-15E3-46F6-8888-E9987B297F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A1C0-D537-45A3-8285-F8FF55E461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F43F-CB6E-431F-8904-D0B4DE7444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6C5D-82E3-4BDE-81D1-A1A1AE1847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D712-7B26-47A3-B425-59F0F6880D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418C-59D2-4DCA-B4C9-C93CC3745A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2C6B-3B8F-4E0E-998A-857ACE0FB2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9031-80E9-4650-AA8D-345FE9B7C7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8FB9-03E0-45B0-82ED-5784AA60AC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340B-1E37-4595-B3FE-D967F50F2D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5D5D-CA2A-4D65-A840-B6F1E2D85C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C8B2-1B29-4EF9-B531-10B133226C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1904-01AA-4FD8-B89A-7AB938A314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988A-BE78-4C55-AE58-5AC2E7616D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CBA6-D342-4BCD-AE72-A40B65D83A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5D7A-D0B5-4D90-AD45-D61AFCF00C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51DE-7987-4259-AC24-0A17A41C88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F1A9-4BCA-4A2E-ABF0-12B36A42DF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2FEC-0AB5-4AFA-B685-0F421FFA4D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9106-F268-4F6D-8777-3E2ADCC910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B1C2-0DF6-452F-AB6D-B665D1B32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16F5-BBBE-40CE-A3E9-D5EFDB2723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100E-4BB0-41F1-BE02-3265AA31BF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53EB-EBCA-48D4-B7D8-8FAC21A306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22A3-85BC-4F08-95EE-B8FEC98247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A71D-65F4-49B0-B617-CC2F18C50C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17CB-79ED-42B6-8C9F-29ADD6E40D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E5C7-D041-4D7F-BFCF-0861EFFE22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2318-B66F-4D12-9760-0B7F860182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710F-89B1-498E-BCD2-6D0295CB0B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2B46-2048-4201-A85A-F751CCFFD0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F9E1-2242-4623-A294-CC0F4967D5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1123-8957-4798-A48E-E725629025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431640" y="3233880"/>
            <a:ext cx="80280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042920" y="755640"/>
            <a:ext cx="7128000" cy="60580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4788000" y="38926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4500720" y="469440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5364000" y="547992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5292720" y="624204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Picture 2" descr=""/>
          <p:cNvPicPr/>
          <p:nvPr/>
        </p:nvPicPr>
        <p:blipFill>
          <a:blip r:embed="rId1"/>
          <a:stretch/>
        </p:blipFill>
        <p:spPr>
          <a:xfrm>
            <a:off x="533520" y="907920"/>
            <a:ext cx="8076960" cy="56865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3"/>
          <a:stretch/>
        </p:blipFill>
        <p:spPr>
          <a:xfrm>
            <a:off x="1763640" y="35146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4"/>
          <a:stretch/>
        </p:blipFill>
        <p:spPr>
          <a:xfrm>
            <a:off x="1763640" y="522288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519120" y="907920"/>
            <a:ext cx="8105760" cy="57056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3"/>
          <a:stretch/>
        </p:blipFill>
        <p:spPr>
          <a:xfrm>
            <a:off x="1763640" y="363852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4"/>
          <a:stretch/>
        </p:blipFill>
        <p:spPr>
          <a:xfrm>
            <a:off x="1763640" y="522936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91520" cy="38484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2" descr=""/>
          <p:cNvPicPr/>
          <p:nvPr/>
        </p:nvPicPr>
        <p:blipFill>
          <a:blip r:embed="rId2"/>
          <a:stretch/>
        </p:blipFill>
        <p:spPr>
          <a:xfrm>
            <a:off x="858960" y="5067360"/>
            <a:ext cx="7200720" cy="1457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3"/>
          <a:stretch/>
        </p:blipFill>
        <p:spPr>
          <a:xfrm>
            <a:off x="1403280" y="26370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4"/>
          <a:stretch/>
        </p:blipFill>
        <p:spPr>
          <a:xfrm>
            <a:off x="1258920" y="508464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471600" y="907920"/>
            <a:ext cx="8200800" cy="566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2"/>
          <a:stretch/>
        </p:blipFill>
        <p:spPr>
          <a:xfrm>
            <a:off x="1763640" y="270828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791480" cy="49626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2"/>
          <a:stretch/>
        </p:blipFill>
        <p:spPr>
          <a:xfrm>
            <a:off x="3995640" y="1341360"/>
            <a:ext cx="86364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3"/>
          <a:stretch/>
        </p:blipFill>
        <p:spPr>
          <a:xfrm>
            <a:off x="7451640" y="1341360"/>
            <a:ext cx="865440" cy="4381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4"/>
          <a:stretch/>
        </p:blipFill>
        <p:spPr>
          <a:xfrm>
            <a:off x="5508720" y="2205000"/>
            <a:ext cx="863640" cy="438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5"/>
          <a:stretch/>
        </p:blipFill>
        <p:spPr>
          <a:xfrm>
            <a:off x="3276720" y="3068640"/>
            <a:ext cx="863640" cy="438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6"/>
          <a:stretch/>
        </p:blipFill>
        <p:spPr>
          <a:xfrm>
            <a:off x="1908000" y="3927600"/>
            <a:ext cx="863640" cy="438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7"/>
          <a:stretch/>
        </p:blipFill>
        <p:spPr>
          <a:xfrm>
            <a:off x="3203640" y="4786200"/>
            <a:ext cx="863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5" name="Picture 1" descr=""/>
          <p:cNvPicPr/>
          <p:nvPr/>
        </p:nvPicPr>
        <p:blipFill>
          <a:blip r:embed="rId1"/>
          <a:stretch/>
        </p:blipFill>
        <p:spPr>
          <a:xfrm>
            <a:off x="571680" y="906480"/>
            <a:ext cx="8001000" cy="57625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2"/>
          <a:stretch/>
        </p:blipFill>
        <p:spPr>
          <a:xfrm>
            <a:off x="4932360" y="1844640"/>
            <a:ext cx="863640" cy="438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3"/>
          <a:stretch/>
        </p:blipFill>
        <p:spPr>
          <a:xfrm>
            <a:off x="3708360" y="3597120"/>
            <a:ext cx="863640" cy="4384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4"/>
          <a:stretch/>
        </p:blipFill>
        <p:spPr>
          <a:xfrm>
            <a:off x="2556000" y="5300640"/>
            <a:ext cx="863640" cy="438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5"/>
          <a:stretch/>
        </p:blipFill>
        <p:spPr>
          <a:xfrm>
            <a:off x="6948360" y="6165720"/>
            <a:ext cx="863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Picture 1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448760" cy="30384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" descr=""/>
          <p:cNvPicPr/>
          <p:nvPr/>
        </p:nvPicPr>
        <p:blipFill>
          <a:blip r:embed="rId2"/>
          <a:stretch/>
        </p:blipFill>
        <p:spPr>
          <a:xfrm>
            <a:off x="2195640" y="1052640"/>
            <a:ext cx="863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0:00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